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1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3.pct" ContentType="image/x-pict"/>
  <Override PartName="/ppt/media/image4.pct" ContentType="image/x-pict"/>
  <Override PartName="/ppt/media/image5.jpeg" ContentType="image/jpeg"/>
  <Override PartName="/ppt/media/image12.pct" ContentType="image/x-pict"/>
  <Override PartName="/ppt/media/image2.pct" ContentType="image/x-pict"/>
  <Override PartName="/ppt/media/image9.jpeg" ContentType="image/jpeg"/>
  <Override PartName="/ppt/media/image11.png" ContentType="image/png"/>
  <Override PartName="/ppt/media/image30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pct" ContentType="image/x-pict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jpeg" ContentType="image/jpeg"/>
  <Override PartName="/ppt/media/image24.jpeg" ContentType="image/jpeg"/>
  <Override PartName="/ppt/media/image25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249F-2852-4E89-A81D-98E44DA43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E5A7-77E1-4BD0-83E8-E908AB1E2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82D8-13FF-4322-820A-8A08AF173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9025-ABB9-4101-B2E7-7628D1D91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845E-8C6C-4F20-8AF3-A50A20C63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04E7-242E-4E6C-A7E3-E6959E2C9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A0178-F9D0-4C94-94F3-3DDF75F55B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B5084-EE8A-4CEF-879A-F5085668CF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208B8-3B49-4582-BBD0-4B94F0AE8A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DA74B-F4AA-4B9D-B049-FD4844F2B3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9C55-1F21-4283-8213-3188AA85C5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9424-849F-48B2-BB03-AF36CC3614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65BFE-87C5-4647-BB2C-1085C3EFA6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56E0-5FC5-4218-BFE8-9D99390BA3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7E1D4-BDDC-4C87-9735-CE1A7ED33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2FB67-716E-4660-B5CA-D274F7BEE5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FD744-793B-46F3-AC61-32028524FC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235D1-CBF7-446A-8F6E-C16DBEB125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064EB-30DC-402B-B88A-9F1374C593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4B74-6500-4556-B7B2-A4D9DD9D7A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E151-C88E-4F99-AA95-F53CBF574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D2A0-EB28-41BB-BE76-FCAA3C764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056A-D9A6-4F49-A101-76E3D836B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021F-DCC0-424E-8151-5F1D38921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C82B-17CA-4F99-972C-AEBFF851E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FBE1-BCC4-480F-9A93-CBF2FC1FF1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8D3-7CCD-4E52-A603-6ACC86804DA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5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147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151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ct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: Fats &amp; Oil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43400" y="134460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197840" y="4229280"/>
            <a:ext cx="1717560" cy="2476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476800" cy="2278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657600" y="42670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vs. unsaturate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762120" y="1752480"/>
            <a:ext cx="8164440" cy="3178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0" t="75689" r="60301" b="6492"/>
          <a:stretch/>
        </p:blipFill>
        <p:spPr>
          <a:xfrm>
            <a:off x="797040" y="4881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0" t="75689" r="60301" b="6492"/>
          <a:stretch/>
        </p:blipFill>
        <p:spPr>
          <a:xfrm>
            <a:off x="797040" y="541512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rcRect l="0" t="75689" r="60301" b="6492"/>
          <a:stretch/>
        </p:blipFill>
        <p:spPr>
          <a:xfrm>
            <a:off x="797040" y="5943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rcRect l="61204" t="69198" r="0" b="6492"/>
          <a:stretch/>
        </p:blipFill>
        <p:spPr>
          <a:xfrm>
            <a:off x="5638680" y="4967280"/>
            <a:ext cx="3168720" cy="824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61204" t="69198" r="0" b="6492"/>
          <a:stretch/>
        </p:blipFill>
        <p:spPr>
          <a:xfrm>
            <a:off x="5975280" y="5867280"/>
            <a:ext cx="3168720" cy="824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01280" y="12949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9360" y="129492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un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14400" y="2666880"/>
            <a:ext cx="3595680" cy="3595680"/>
            <a:chOff x="914400" y="2666880"/>
            <a:chExt cx="3595680" cy="3595680"/>
          </a:xfrm>
        </p:grpSpPr>
        <p:sp>
          <p:nvSpPr>
            <p:cNvPr id="290" name=""/>
            <p:cNvSpPr/>
            <p:nvPr/>
          </p:nvSpPr>
          <p:spPr>
            <a:xfrm>
              <a:off x="914400" y="2666880"/>
              <a:ext cx="3595680" cy="3595680"/>
            </a:xfrm>
            <a:prstGeom prst="ellipse">
              <a:avLst/>
            </a:prstGeom>
            <a:noFill/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96960" y="3008160"/>
              <a:ext cx="2139480" cy="2927160"/>
            </a:xfrm>
            <a:prstGeom prst="line">
              <a:avLst/>
            </a:prstGeom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007960" y="3015720"/>
            <a:ext cx="407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0" spc="-1" strike="noStrike">
                <a:solidFill>
                  <a:srgbClr val="006c01"/>
                </a:solidFill>
                <a:latin typeface="Wingdings"/>
                <a:ea typeface="Wingdings"/>
              </a:rPr>
              <a:t></a:t>
            </a:r>
            <a:endParaRPr b="0" lang="en-US" sz="37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0" t="0" r="32404" b="8571"/>
          <a:stretch/>
        </p:blipFill>
        <p:spPr>
          <a:xfrm>
            <a:off x="4091040" y="2660760"/>
            <a:ext cx="4849920" cy="4132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negatively 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1105920" y="3591000"/>
            <a:ext cx="2469960" cy="2077920"/>
          </a:xfrm>
          <a:prstGeom prst="wedgeEllipseCallout">
            <a:avLst>
              <a:gd name="adj1" fmla="val 42990"/>
              <a:gd name="adj2" fmla="val 508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t’s just like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enguin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 head at one e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 tai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the other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32674" b="11856"/>
          <a:stretch/>
        </p:blipFill>
        <p:spPr>
          <a:xfrm>
            <a:off x="4572000" y="3052800"/>
            <a:ext cx="4522680" cy="37288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639612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or hydrophilic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ty acid tails =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ead =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lit “personalit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9520" y="5194080"/>
            <a:ext cx="3245040" cy="137556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with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is complex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impor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 flipH="1">
            <a:off x="221760" y="5570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514480" y="5834880"/>
            <a:ext cx="236808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repelled by water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92520" y="2963160"/>
            <a:ext cx="2413800" cy="337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attracted to water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6400" y="3502080"/>
            <a:ext cx="2378160" cy="1623960"/>
          </a:xfrm>
          <a:prstGeom prst="wedgeEllipseCallout">
            <a:avLst>
              <a:gd name="adj1" fmla="val 17486"/>
              <a:gd name="adj2" fmla="val 909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Come here,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No, go away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Come here,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No, go away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04600" y="1926720"/>
            <a:ext cx="21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ydrophob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25560" y="2430000"/>
            <a:ext cx="205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ydrophill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ydrophilic heads “attracted” to 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self-assemble into “bubbles”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bble = “micelle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also form a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spholipid bilay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rcRect l="29604" t="57006" r="0" b="8678"/>
          <a:stretch/>
        </p:blipFill>
        <p:spPr>
          <a:xfrm>
            <a:off x="4971960" y="4592520"/>
            <a:ext cx="3924360" cy="1633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660920" y="5258160"/>
            <a:ext cx="1298520" cy="405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ilay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66040" y="4197600"/>
            <a:ext cx="1298520" cy="4057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66040" y="6109200"/>
            <a:ext cx="1298520" cy="4057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create a barrier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e outside vs. insid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y mak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ell membranes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7240" y="2965320"/>
            <a:ext cx="290376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873600" y="2940120"/>
            <a:ext cx="5105160" cy="38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>
            <a:off x="1736640" y="5618160"/>
            <a:ext cx="2286000" cy="1036800"/>
          </a:xfrm>
          <a:prstGeom prst="wedgeEllipseCallout">
            <a:avLst>
              <a:gd name="adj1" fmla="val 68680"/>
              <a:gd name="adj2" fmla="val -3468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fused C rings + ?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steroids created by atta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functional group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ring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structure creates different function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examples: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holesterol, sex hormo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935440" y="4202280"/>
            <a:ext cx="5752800" cy="2604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999800" y="4759200"/>
            <a:ext cx="1717200" cy="47520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27040" y="2043000"/>
            <a:ext cx="5738760" cy="430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31" name=""/>
          <p:cNvSpPr txBox="1"/>
          <p:nvPr/>
        </p:nvSpPr>
        <p:spPr>
          <a:xfrm>
            <a:off x="6152040" y="5340960"/>
            <a:ext cx="2725560" cy="15843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txBody>
          <a:bodyPr tIns="0" bIns="0"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lps keep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ll membrane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6960" y="1384200"/>
            <a:ext cx="7480080" cy="506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omponent of cell membran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236760" y="178596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52280" y="189864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5666" t="0" r="9438" b="0"/>
          <a:stretch/>
        </p:blipFill>
        <p:spPr>
          <a:xfrm>
            <a:off x="0" y="4575240"/>
            <a:ext cx="3200400" cy="19749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10720" y="1230120"/>
            <a:ext cx="81536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What a big difference a few atoms can make!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33960" y="1773360"/>
            <a:ext cx="860400" cy="1123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42200" y="1773360"/>
            <a:ext cx="1019160" cy="1123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0" y="5570640"/>
            <a:ext cx="561960" cy="620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7200" y="5570640"/>
            <a:ext cx="561960" cy="620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61200" y="4327560"/>
            <a:ext cx="720720" cy="792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1683" r="52024" b="48674"/>
          <a:stretch/>
        </p:blipFill>
        <p:spPr>
          <a:xfrm>
            <a:off x="5407200" y="447840"/>
            <a:ext cx="3511440" cy="19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3222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rcRect l="0" t="0" r="0" b="10353"/>
          <a:stretch/>
        </p:blipFill>
        <p:spPr>
          <a:xfrm>
            <a:off x="2438280" y="4606920"/>
            <a:ext cx="3962520" cy="216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19320" y="2104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42400" y="3101040"/>
            <a:ext cx="5356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long term energy storag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ncentrated energy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00280" y="2566800"/>
            <a:ext cx="72388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hosts of Lectures Past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(storage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42302" t="0" r="32674" b="11856"/>
          <a:stretch/>
        </p:blipFill>
        <p:spPr>
          <a:xfrm>
            <a:off x="254160" y="3029040"/>
            <a:ext cx="1158840" cy="25700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919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ilic heads on outsid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 outside of cell and inside of cel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obic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H="1">
            <a:off x="1657440" y="4857840"/>
            <a:ext cx="2286000" cy="1239840"/>
          </a:xfrm>
          <a:prstGeom prst="wedgeEllipseCallout">
            <a:avLst>
              <a:gd name="adj1" fmla="val 65208"/>
              <a:gd name="adj2" fmla="val 24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96880" y="1383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ng hydrocarbon chains (H-C)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amily groups”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Do not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big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made of smaller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7200" r="0" b="0"/>
          <a:stretch/>
        </p:blipFill>
        <p:spPr>
          <a:xfrm>
            <a:off x="6999120" y="378000"/>
            <a:ext cx="2028960" cy="26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10" name="" descr=""/>
          <p:cNvPicPr/>
          <p:nvPr/>
        </p:nvPicPr>
        <p:blipFill>
          <a:blip r:embed="rId2"/>
          <a:srcRect l="0" t="47402" r="9442" b="9600"/>
          <a:stretch/>
        </p:blipFill>
        <p:spPr>
          <a:xfrm>
            <a:off x="5100480" y="2949480"/>
            <a:ext cx="3951360" cy="2108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5760" y="1371240"/>
            <a:ext cx="859788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erol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 (3C alcohol)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+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arboxyl (COOH) group “head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4000680"/>
            <a:ext cx="6477120" cy="2482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27160" y="6000120"/>
            <a:ext cx="3464280" cy="5094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482200" y="4844880"/>
            <a:ext cx="605520" cy="1015560"/>
            <a:chOff x="2482200" y="4844880"/>
            <a:chExt cx="605520" cy="1015560"/>
          </a:xfrm>
        </p:grpSpPr>
        <p:grpSp>
          <p:nvGrpSpPr>
            <p:cNvPr id="216" name=""/>
            <p:cNvGrpSpPr/>
            <p:nvPr/>
          </p:nvGrpSpPr>
          <p:grpSpPr>
            <a:xfrm>
              <a:off x="2486160" y="4844880"/>
              <a:ext cx="601560" cy="1015560"/>
              <a:chOff x="2486160" y="4844880"/>
              <a:chExt cx="601560" cy="101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2486160" y="484488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7600" y="526068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482200" y="536040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720800" y="3914640"/>
            <a:ext cx="2165400" cy="1650960"/>
            <a:chOff x="1720800" y="3914640"/>
            <a:chExt cx="2165400" cy="1650960"/>
          </a:xfrm>
        </p:grpSpPr>
        <p:sp>
          <p:nvSpPr>
            <p:cNvPr id="221" name=""/>
            <p:cNvSpPr/>
            <p:nvPr/>
          </p:nvSpPr>
          <p:spPr>
            <a:xfrm>
              <a:off x="1720800" y="391464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48760" y="486468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ster link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443560" y="2871000"/>
            <a:ext cx="1380960" cy="371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hydroxy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70400" y="2871000"/>
            <a:ext cx="1365840" cy="371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arboxy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47402" r="9442" b="9600"/>
          <a:stretch/>
        </p:blipFill>
        <p:spPr>
          <a:xfrm>
            <a:off x="2189160" y="3524400"/>
            <a:ext cx="5608800" cy="299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2"/>
          <a:srcRect l="0" t="0" r="0" b="66003"/>
          <a:stretch/>
        </p:blipFill>
        <p:spPr>
          <a:xfrm>
            <a:off x="2209680" y="1193760"/>
            <a:ext cx="5405400" cy="20638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1320" y="2633760"/>
            <a:ext cx="516240" cy="819000"/>
          </a:xfrm>
          <a:prstGeom prst="downArrow">
            <a:avLst>
              <a:gd name="adj1" fmla="val 50000"/>
              <a:gd name="adj2" fmla="val 3966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78120" y="2745000"/>
            <a:ext cx="3808440" cy="4057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31480" y="1724040"/>
            <a:ext cx="605520" cy="1015560"/>
            <a:chOff x="2931480" y="1724040"/>
            <a:chExt cx="605520" cy="1015560"/>
          </a:xfrm>
        </p:grpSpPr>
        <p:grpSp>
          <p:nvGrpSpPr>
            <p:cNvPr id="234" name=""/>
            <p:cNvGrpSpPr/>
            <p:nvPr/>
          </p:nvGrpSpPr>
          <p:grpSpPr>
            <a:xfrm>
              <a:off x="2935440" y="1724040"/>
              <a:ext cx="601560" cy="1015560"/>
              <a:chOff x="2935440" y="1724040"/>
              <a:chExt cx="601560" cy="1015560"/>
            </a:xfrm>
          </p:grpSpPr>
          <p:sp>
            <p:nvSpPr>
              <p:cNvPr id="235" name=""/>
              <p:cNvSpPr/>
              <p:nvPr/>
            </p:nvSpPr>
            <p:spPr>
              <a:xfrm>
                <a:off x="2935440" y="172404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213984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31480" y="223956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812320" y="3959280"/>
            <a:ext cx="605520" cy="1015560"/>
            <a:chOff x="2812320" y="3959280"/>
            <a:chExt cx="605520" cy="1015560"/>
          </a:xfrm>
        </p:grpSpPr>
        <p:grpSp>
          <p:nvGrpSpPr>
            <p:cNvPr id="239" name=""/>
            <p:cNvGrpSpPr/>
            <p:nvPr/>
          </p:nvGrpSpPr>
          <p:grpSpPr>
            <a:xfrm>
              <a:off x="2816280" y="3959280"/>
              <a:ext cx="601560" cy="1015560"/>
              <a:chOff x="2816280" y="3959280"/>
              <a:chExt cx="601560" cy="1015560"/>
            </a:xfrm>
          </p:grpSpPr>
          <p:sp>
            <p:nvSpPr>
              <p:cNvPr id="240" name=""/>
              <p:cNvSpPr/>
              <p:nvPr/>
            </p:nvSpPr>
            <p:spPr>
              <a:xfrm>
                <a:off x="2816280" y="395928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17720" y="437508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812320" y="447480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812320" y="4987800"/>
            <a:ext cx="605520" cy="1015560"/>
            <a:chOff x="2812320" y="4987800"/>
            <a:chExt cx="605520" cy="1015560"/>
          </a:xfrm>
        </p:grpSpPr>
        <p:grpSp>
          <p:nvGrpSpPr>
            <p:cNvPr id="244" name=""/>
            <p:cNvGrpSpPr/>
            <p:nvPr/>
          </p:nvGrpSpPr>
          <p:grpSpPr>
            <a:xfrm>
              <a:off x="2816280" y="4987800"/>
              <a:ext cx="601560" cy="1015560"/>
              <a:chOff x="2816280" y="4987800"/>
              <a:chExt cx="601560" cy="1015560"/>
            </a:xfrm>
          </p:grpSpPr>
          <p:sp>
            <p:nvSpPr>
              <p:cNvPr id="245" name=""/>
              <p:cNvSpPr/>
              <p:nvPr/>
            </p:nvSpPr>
            <p:spPr>
              <a:xfrm>
                <a:off x="2816280" y="498780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17720" y="540360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812320" y="550332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812320" y="6035760"/>
            <a:ext cx="605520" cy="1015560"/>
            <a:chOff x="2812320" y="6035760"/>
            <a:chExt cx="605520" cy="1015560"/>
          </a:xfrm>
        </p:grpSpPr>
        <p:grpSp>
          <p:nvGrpSpPr>
            <p:cNvPr id="249" name=""/>
            <p:cNvGrpSpPr/>
            <p:nvPr/>
          </p:nvGrpSpPr>
          <p:grpSpPr>
            <a:xfrm>
              <a:off x="2816280" y="6035760"/>
              <a:ext cx="601560" cy="1015560"/>
              <a:chOff x="2816280" y="6035760"/>
              <a:chExt cx="601560" cy="1015560"/>
            </a:xfrm>
          </p:grpSpPr>
          <p:sp>
            <p:nvSpPr>
              <p:cNvPr id="250" name=""/>
              <p:cNvSpPr/>
              <p:nvPr/>
            </p:nvSpPr>
            <p:spPr>
              <a:xfrm>
                <a:off x="2816280" y="6035760"/>
                <a:ext cx="600120" cy="65556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17720" y="6451560"/>
                <a:ext cx="600120" cy="599760"/>
              </a:xfrm>
              <a:prstGeom prst="ellipse">
                <a:avLst/>
              </a:prstGeom>
              <a:solidFill>
                <a:srgbClr val="6f8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812320" y="655128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06800" y="3289320"/>
            <a:ext cx="1861920" cy="1419120"/>
            <a:chOff x="2206800" y="3289320"/>
            <a:chExt cx="1861920" cy="1419120"/>
          </a:xfrm>
        </p:grpSpPr>
        <p:sp>
          <p:nvSpPr>
            <p:cNvPr id="254" name=""/>
            <p:cNvSpPr/>
            <p:nvPr/>
          </p:nvSpPr>
          <p:spPr>
            <a:xfrm>
              <a:off x="2206800" y="328932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7960" y="410256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06800" y="4335480"/>
            <a:ext cx="1861920" cy="1419120"/>
            <a:chOff x="2206800" y="4335480"/>
            <a:chExt cx="1861920" cy="1419120"/>
          </a:xfrm>
        </p:grpSpPr>
        <p:sp>
          <p:nvSpPr>
            <p:cNvPr id="257" name=""/>
            <p:cNvSpPr/>
            <p:nvPr/>
          </p:nvSpPr>
          <p:spPr>
            <a:xfrm>
              <a:off x="2206800" y="43354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7960" y="51487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06800" y="5438880"/>
            <a:ext cx="1861920" cy="1419120"/>
            <a:chOff x="2206800" y="5438880"/>
            <a:chExt cx="1861920" cy="1419120"/>
          </a:xfrm>
        </p:grpSpPr>
        <p:sp>
          <p:nvSpPr>
            <p:cNvPr id="260" name=""/>
            <p:cNvSpPr/>
            <p:nvPr/>
          </p:nvSpPr>
          <p:spPr>
            <a:xfrm>
              <a:off x="2206800" y="54388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87960" y="62521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store ener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nergy stor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centrat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ll H-C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ushion orga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sulates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08160" y="1814400"/>
            <a:ext cx="1922760" cy="735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84480" y="2247840"/>
            <a:ext cx="2590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1352" t="46803" r="9442" b="9002"/>
          <a:stretch/>
        </p:blipFill>
        <p:spPr>
          <a:xfrm>
            <a:off x="4694400" y="3191040"/>
            <a:ext cx="4270320" cy="237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864560" y="398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264280" y="500040"/>
            <a:ext cx="2411280" cy="1239840"/>
          </a:xfrm>
          <a:prstGeom prst="wedgeEllipseCallout">
            <a:avLst>
              <a:gd name="adj1" fmla="val 71726"/>
              <a:gd name="adj2" fmla="val -27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Why do human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like fatty foods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816520" y="4807080"/>
            <a:ext cx="2843280" cy="189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0" t="1683" r="52024" b="4872"/>
          <a:stretch/>
        </p:blipFill>
        <p:spPr>
          <a:xfrm>
            <a:off x="5502240" y="3038400"/>
            <a:ext cx="3513240" cy="366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73" name="" descr=""/>
          <p:cNvPicPr/>
          <p:nvPr/>
        </p:nvPicPr>
        <p:blipFill>
          <a:blip r:embed="rId2"/>
          <a:srcRect l="23628" t="60008" r="27001" b="7504"/>
          <a:stretch/>
        </p:blipFill>
        <p:spPr>
          <a:xfrm>
            <a:off x="5370480" y="635040"/>
            <a:ext cx="37735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rcRect l="53555" t="2520" r="3600" b="5039"/>
          <a:stretch/>
        </p:blipFill>
        <p:spPr>
          <a:xfrm>
            <a:off x="5681520" y="2820960"/>
            <a:ext cx="3343320" cy="3867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58720" y="1371600"/>
            <a:ext cx="805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quid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doub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ed C prevent th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from packing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ightly 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31501" t="51000" r="27001" b="3000"/>
          <a:stretch/>
        </p:blipFill>
        <p:spPr>
          <a:xfrm>
            <a:off x="5719680" y="355680"/>
            <a:ext cx="2908440" cy="2417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flipH="1">
            <a:off x="221760" y="55656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flipH="1">
            <a:off x="2154240" y="5479920"/>
            <a:ext cx="2548080" cy="1239840"/>
          </a:xfrm>
          <a:prstGeom prst="wedgeEllipseCallout">
            <a:avLst>
              <a:gd name="adj1" fmla="val 88254"/>
              <a:gd name="adj2" fmla="val -146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mono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poly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1-13T04:33:52Z</cp:lastPrinted>
  <dcterms:modified xsi:type="dcterms:W3CDTF">2008-11-20T15:36:39Z</dcterms:modified>
  <cp:revision>51</cp:revision>
  <dc:subject/>
  <dc:title>PowerPoint Presentation</dc:title>
</cp:coreProperties>
</file>